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74680" y="704520"/>
            <a:ext cx="4634280" cy="34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98400" y="4403160"/>
            <a:ext cx="5586840" cy="41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 your high school GPA if you don’t have a UIUC GPA y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Frosted Flakes (Kellogg’s) as an example when talking to General Mills (Cheerio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expect a “small” company when talking to P&amp;G, Ford, Motorola, 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what majors the company hires, where they’re located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r resume has an objective of a consulting internship – don’t hand that to the manufacturing company.  Tailor job objective if necess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cal Interview vs. Situational Inter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 = Context, Action, Resul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cal Interview vs. Situational Inter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 = Context, Action, Resul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what does it mean to have good leadership ski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omes to mind when you think of good people skil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1801-4B0A-4EDD-B783-BD8387502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288D-349B-4410-9D28-B585A79ED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49CD-520D-4084-B88D-09CBEB0D3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C74D-B0A7-489C-AC3C-9517597D9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222A6-846B-49DF-B736-5E6B93026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7C77D-77F3-43CA-8E51-ADA6C1D5B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E5544-88A9-4485-AC3E-EF7554F4B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DE298-0530-4B80-8D28-C4E4B1B08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F3C5D-5CAA-4294-AC91-934DE5124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0D2FE-9516-40B5-9DEF-25EF189D4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BCF74-5F8D-410A-BD28-9F5377063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06D7-7CA8-40D7-983A-83993F6CB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57B8E-4A03-41D1-B9BE-32CF738F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50089-9E86-4C30-AF2F-12783107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2185C-CF39-4F59-A54F-D3BD494C9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E0C2F-4D8E-4461-AAD6-0CEA61CA5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DB025-196D-4922-BC6E-835664402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D4F4-D87D-4197-9F31-C44BE0C72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C9E5-E447-4613-A6E9-4D3D86B81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EA65-82B3-4CA9-BD5F-6106CF2D3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253F-741E-4567-B711-D3C5747B1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FD56-65D0-4BFE-9D0B-000CCDE0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FABD-1C0D-4F36-84E6-EA9D74A9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C63A-F4AC-459A-8413-BB18E926A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5d9ed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c5d9ed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c5d9ed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c5d9ed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8805F-733F-4489-A6FB-48E1AD1F38A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5d9ed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c5d9ed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c5d9ed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c5d9ed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E93CC-0913-4B79-8450-0BC1BE40C24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Employers are Looking for in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76520" y="3962520"/>
            <a:ext cx="5638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sitive Attitu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-do Attitud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dic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istenc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-orie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546440" y="1600200"/>
            <a:ext cx="4597560" cy="525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bility to Deliver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ademic Accomplishment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ious Work Experienc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racurricular Activit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 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/Community invol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cover dir="r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1600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eveloping an Interviewing Strateg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0" t="0" r="0" b="9555"/>
          <a:stretch/>
        </p:blipFill>
        <p:spPr>
          <a:xfrm>
            <a:off x="1879560" y="3403440"/>
            <a:ext cx="4737240" cy="276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IS AN INTERVIE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opportunity to “sell” your abilities, interests, and career objective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opportunity to ask questions and learn more about the position and career offered by a particular compan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zoom dir="in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PARE FOR INT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 the Company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 the job requirement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 your resu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876920" y="3429000"/>
            <a:ext cx="4267080" cy="3429000"/>
          </a:xfrm>
          <a:prstGeom prst="rect">
            <a:avLst/>
          </a:prstGeom>
          <a:ln w="0">
            <a:noFill/>
          </a:ln>
        </p:spPr>
      </p:pic>
    </p:spTree>
  </p:cSld>
  <p:transition advTm="6000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LAN YOUR INTERVIEW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 yourself and what you have to offer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one has something to offer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istically appraise your strengths and weaknes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ntory your assets: talents, interests, and experiences – what have you already accomplish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ss your strong p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TERVIEW T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erent interviewers have different styles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erent types of interviews (panel, one-on-one)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w self-respect and confidence, but don’t be cocky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 positive, enthusiastic and interested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TERVIEW T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84582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ten to questions and answer directly. Be concise – don’t go into details that are not important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4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K QUESTIONS!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 on YOU – sell your accomplishments and contribution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specific examples of what you have already accomplished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view Ti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Use CAR concept for exam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xt--Action--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ny of the three are missing, the example is not comple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968480" y="4335480"/>
          <a:ext cx="5335560" cy="141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8480" y="4335480"/>
                    <a:ext cx="5335560" cy="14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6000"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is the CAR Concep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tex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The situation in which the action took place.  It’s like background informatio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What did you personally do?  What was your contribution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sul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What did your action make happen? Be specif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key skills Employers look for in a successful Intern or New-hir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interviewing strate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 Activ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 your ability to provide examples of how you demonstrate skills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TERVIEW MISTAK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n’t provide results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not prepare for the interview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s too much background/not enough background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mb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erc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skill, list one example of how you have demonstrated that skill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 a few examp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e CAR Concept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xt--Action--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now yourself and the company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ccess is dependent on your ability to sell yourself - communicate your strong points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est and enthusiasm are important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MEMBER - you’re not just looking for a job, but a career -- prepare accordingl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4800600"/>
          </a:xfrm>
          <a:prstGeom prst="rect">
            <a:avLst/>
          </a:prstGeom>
          <a:ln w="0">
            <a:noFill/>
          </a:ln>
        </p:spPr>
      </p:pic>
    </p:spTree>
  </p:cSld>
  <p:transition advTm="4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ey Skills Employers Look F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ership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s Effectively with Othe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 Solving/Decision Ma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ws Capabilit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ective Communic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braces Chang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ve Attitud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ility to Deliver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732200" y="1371600"/>
            <a:ext cx="4411800" cy="5486400"/>
          </a:xfrm>
          <a:prstGeom prst="rect">
            <a:avLst/>
          </a:prstGeom>
          <a:ln w="0">
            <a:noFill/>
          </a:ln>
        </p:spPr>
      </p:pic>
    </p:spTree>
  </p:cSld>
  <p:transition advTm="6000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eadership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vision the future; recognizes opportunities; forms a clear vision of what can be achieved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g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gages others in developing and owning the vision and strategies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iz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ergize people and resources to realize vi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environment where people are inspired and motivated to do their very best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self and other to achieve vision by leveraging strengths and removing barriers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executable plans to deliver the strate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d self and others accountable for resul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orks Effectively with Ot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 positive and effective working relationship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s diversity and leverages those differences to deliver results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lity to give and receive feedback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lity to listen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pting instructions and assignment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sting others to accomplish work group objecti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checker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blem Solving &amp;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cision Making Ski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rt, creative people who are problem solver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specific, challenging, and achievable goal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s knowledge and thinks strategically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rt through data, identify issues, risk, &amp; trends, and determine optimal solutions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rcise sound judgment to make informed and timely decision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cipate new problems and consider long-term effects of decision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checker dir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rows Cap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s from success and failure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s learning opportunitie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s knowledge, skills, and experience to raise the competence level of the group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aches, mentors, and brings the best out in ot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comb dir="horz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ffective Communication Ski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cts effectively at all levels of the company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ress ideas in an effective mann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, to the point, and understood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dent and poised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husiasm and interest in the company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es the right issues to communicate to the appropriate audience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checker dir="ver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mbrace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k out and readily accepts new ideas, experiences, opportunities, and ways of doing thing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tes and manages meaningful chang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and adapt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d/adjust to changing condi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s ambigu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cover dir="d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6T14:41:57Z</dcterms:created>
  <dc:creator/>
  <dc:description/>
  <dc:language>en-US</dc:language>
  <cp:lastModifiedBy>Lokesh</cp:lastModifiedBy>
  <cp:lastPrinted>2004-01-16T13:53:00Z</cp:lastPrinted>
  <dcterms:modified xsi:type="dcterms:W3CDTF">2008-02-05T16:30:21Z</dcterms:modified>
  <cp:revision>0</cp:revision>
  <dc:subject/>
  <dc:title/>
</cp:coreProperties>
</file>